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7315-077B-4E4F-B18D-333D9D166B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EA24-6136-4444-AE5F-0F5EDCBF0B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766E-5506-418D-97DE-3B8EB4DA4E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DBE3-A782-4AB6-A419-76E9B378157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73BD-6345-4B02-BBEB-437A532F50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CA3F-0F39-432B-95E6-09387EED1B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F931-A325-4A70-A943-9F6053029E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CCD6-21E8-4BBC-9209-A5A15A0FD9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B321-F9CD-4D2B-8521-4726F42FCD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264D-7D95-4F8E-B3B4-7CE6A4CC18F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5220-3FC7-478C-A6BA-6A5A44B7AC9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70D7-B342-43FD-B44C-4E420CA0D27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3F07-8EA3-42C8-AACA-5A083D6A12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0755-4D53-4691-A67B-8BCC51AAD4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06F4-11D9-4C56-99FD-81248BDF48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5A5E-EA51-49C0-A447-AF97CA3910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FFA3-7493-43C3-B435-40E6B223948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7536-28B4-4B68-8D86-7642D006D9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5003-0B40-4284-931B-2AD679488A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5F84-831C-467A-BA49-5EEC386EC3A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1281-975B-44B7-B7C4-D598B2BA2E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97E1-8DCE-4C5D-96E3-1EE0F7F2DC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3F50-4E36-49C4-827E-898D7477BE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BDD-0CB1-4F01-AEBE-10A9625864E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BAAD-1489-4E2E-AD0F-38131E6733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2F99-9A25-46C3-A1EF-B2200CC008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D71A-86FA-48CB-9BC5-9E73E5288C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8633-2810-4D66-BB8B-F1225D82CC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1653-398A-4849-A4E7-2AE8D1029B7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DDFA-9B42-4597-8514-2DD7442207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1EEE-CC94-4E23-81E8-B6F074930CE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6602-C414-4FCE-B058-0D344E51D8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BDEE-F13C-40AE-B4D8-20BB8B475E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B2C7-4978-4360-8059-40279BFA84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E092-82A1-4FC7-B7E8-671D8EE38C4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C225-BEA0-41FA-B74B-7772D1C28A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9BFC-9963-46D2-833A-7723475176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BB81-97B3-4F3B-A84B-34BBA0AEEF6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8769-9BD9-4E1E-B5C3-5C2DEE0FE6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EF95-36DA-4353-8378-A799AAF8BDE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0F83-4F40-46EE-8635-437043123B7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A7C9-927D-4C27-A390-6E7F061ECF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37FD-5108-4D13-8DC6-FFDD8DE75F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A7DB-7D89-447C-A89F-EF9E6CF1DD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E6D1-30AE-4493-AEEE-4E8FB5BB50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6F40-0103-4E3B-9380-3624212B56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4DFC-015B-4758-9789-9EDDF71DBC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B61A-F39A-46A5-9D23-E190C4103D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E592-DDA3-4474-89B0-85239EEB77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4295-43CC-485C-9DCA-B3A1FD9CB4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11BF-3CD4-44CE-BA7A-482F93AF0C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3967-2974-42AD-919B-B07E0E14DE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B563-9E29-40B1-AA21-D32C46F184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DC88-5135-4C3C-80A9-16E060D867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860B-1311-436C-8CD0-4107900AF5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97B2-BD23-4884-875B-E23CD6DB62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FD20-5708-4AF9-8EB7-28190DE146C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2CA9-A169-4B4E-AFE2-5D4722848D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B011-2A62-4299-B782-F74A7A4ADF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A66B-8603-45CB-A451-A1BE871B1E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B06B-F686-4C05-B73F-6A5B0EB879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7A3B-132A-47A8-8A65-A40DF90811A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5FFC-939F-4D54-A81D-210DF73EAA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532E-679D-4404-AC1B-551B7D06A1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BFC4-F4E7-4FB1-A861-1C34424541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1D90-CCC3-4F81-A857-2C942A7CD4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8E22-E74F-4943-A785-F5572B69B65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EC65-1643-4028-9AD4-CCF5F3960D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162-A568-43F0-9AFF-85C1F54F31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7F0D-4959-4D6A-90FE-33D8C947FF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8C46-EC9A-481C-82EA-3FC6A3AE605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CD8D-0DED-40E8-8D23-7E904B7E30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7FC6-5A88-49E2-AABB-D11D77A5619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B674-56F2-48B3-B2FC-0D04179C90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EB2D-A8F5-4B86-9F21-F3836CE90D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6A0A-682C-4E48-92F7-0F1692DA04B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CA7F-B90D-4C86-96B0-4A506EEEB4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62D3-5134-4008-AE37-5E82BB1627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188C-6780-4970-998E-E543B853E4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4935-9D07-41D4-8F05-8CCB28EBE8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85AB-61F9-459A-856E-E68CE9286C1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7B2E-6768-48FB-90A1-0CD1789D09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6679-0808-4B13-960F-46662FDDF1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CA85-C3D3-4D03-96DF-19117E3597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526D-4D3D-46E6-A36A-09950106404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6823-26B2-4A1E-AC11-9339A02941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B72E-C619-4A06-8130-317C664A044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8B24-DA32-46DF-B8C5-FD0C7920E0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89984-3491-4F0A-8697-5BC078A3D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0BEC-6B55-4CD9-8064-AE5831BB1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D18E5-5781-4A59-90B8-8456F28E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E8E5-71B9-4B43-B93B-CDC0728F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EE1F2-FDA1-49B2-BA28-B79B09010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CB40B-B06E-4319-8BC8-46B3491EF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4A768-1178-4F31-BBC4-ED8E9F181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618D2-A525-4288-A31B-1587FE91E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8C19A-2B7D-4878-A905-8DDF4964A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FA676-F48E-4D11-BFAC-4F042AEA9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55DB0-401C-41FA-8AD4-99197245C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C7CA-6F68-4765-99CF-1D0C50FB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2D94-1223-45CC-B90C-08F3F58F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554CA-F7E0-4451-875D-F12A90338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C0692-8C12-466E-AF1B-0CC87959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2FF8C-6BAD-42CD-AE79-29D968089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916B8-B2E1-4D83-9CF1-C04CE49BD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A0901-7A57-4C2A-870F-615B352E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9B433-05DB-4019-887B-1DF6F4A2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4AF2-5BCA-445D-8D62-441E6653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A1F2-981A-417A-8EC0-49106037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5D8D1-A2E7-4039-80D2-BB243BB3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87D6-C916-4429-BE12-FBC796874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C8E0-BF7F-4C1C-9BD3-9DD42D00D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32E0-18FC-4690-BD63-1845153603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C7CC-CB9B-467A-9D50-B0DB8E73F6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andom Literary and Rhetorical Term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ed from pas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 Multiple-choice and Essa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tithesi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alancing of two opposite or contrasting words, phrases or claus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 .one seeing more where the other sees less, one seeing black where the other sees white, one seeing big where the other sees small. . .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Shakespeare’s </a:t>
            </a:r>
            <a:r>
              <a:rPr b="0" i="1" lang="en-US" sz="2800" spc="-1" strike="noStrike">
                <a:solidFill>
                  <a:srgbClr val="ffffff"/>
                </a:solidFill>
                <a:latin typeface="Tahoma"/>
              </a:rPr>
              <a:t>Macbeth</a:t>
            </a:r>
            <a:r>
              <a:rPr b="0" lang="en-US" sz="2800" spc="-1" strike="noStrike">
                <a:solidFill>
                  <a:srgbClr val="ffffff"/>
                </a:solidFill>
                <a:latin typeface="Tahoma"/>
              </a:rPr>
              <a:t>, Act I, Scene I, Line 11: “Fair is foul and foul is fai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xymoron: rhetorical antithesis, juxtaposing two contradictory terms like “wise fool” or “eloquent sil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ositive</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ssential word groups (phrases and clauses) that follow nouns and identify or explain them.</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My aunt, </a:t>
            </a:r>
            <a:r>
              <a:rPr b="0" i="1" lang="en-US" sz="2400" spc="-1" strike="noStrike">
                <a:solidFill>
                  <a:srgbClr val="ffffff"/>
                </a:solidFill>
                <a:latin typeface="Tahoma"/>
              </a:rPr>
              <a:t>who lives in Montana</a:t>
            </a:r>
            <a:r>
              <a:rPr b="0" lang="en-US" sz="2400" spc="-1" strike="noStrike">
                <a:solidFill>
                  <a:srgbClr val="ffffff"/>
                </a:solidFill>
                <a:latin typeface="Tahoma"/>
              </a:rPr>
              <a:t>, is taking surfing lessons in Hawaii.</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entence above is a “nonrestrictive clause,” because it is not necessary to the meaning of the sentence and it can easily be put in another sentence and still make sense.  Thus, it is set off by comma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strictive clause also follows a noun but is necessary to the meaning of the sentence.  It </a:t>
            </a:r>
            <a:r>
              <a:rPr b="0" i="1" lang="en-US" sz="2400" spc="-1" strike="noStrike">
                <a:solidFill>
                  <a:srgbClr val="ffffff"/>
                </a:solidFill>
                <a:latin typeface="Tahoma"/>
              </a:rPr>
              <a:t>is not</a:t>
            </a:r>
            <a:r>
              <a:rPr b="0" lang="en-US" sz="2400" spc="-1" strike="noStrike">
                <a:solidFill>
                  <a:srgbClr val="ffffff"/>
                </a:solidFill>
                <a:latin typeface="Tahoma"/>
              </a:rPr>
              <a:t> an appositive.  Thus, no commas.  “That” always signals restrictiv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People </a:t>
            </a:r>
            <a:r>
              <a:rPr b="0" i="1" lang="en-US" sz="2400" spc="-1" strike="noStrike">
                <a:solidFill>
                  <a:srgbClr val="ffffff"/>
                </a:solidFill>
                <a:latin typeface="Tahoma"/>
              </a:rPr>
              <a:t>who can speak more than one language are</a:t>
            </a:r>
            <a:r>
              <a:rPr b="0" lang="en-US" sz="2400" spc="-1" strike="noStrike">
                <a:solidFill>
                  <a:srgbClr val="ffffff"/>
                </a:solidFill>
                <a:latin typeface="Tahoma"/>
              </a:rPr>
              <a:t> multilingual.</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Please repair all the windows </a:t>
            </a:r>
            <a:r>
              <a:rPr b="0" i="1" lang="en-US" sz="2400" spc="-1" strike="noStrike">
                <a:solidFill>
                  <a:srgbClr val="ffffff"/>
                </a:solidFill>
                <a:latin typeface="Tahoma"/>
              </a:rPr>
              <a:t>that are broken</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chetyp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ing: model, example, standard, original, classic.</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l patterns of ritual, mythology and folklore that recur in the legends, ceremonies and stories of the most diverse cultures.</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literature, applies to narrative designs, character types, or images which are said to be identifiable in a wide variety of works of literature, as well as myths, and even ritualized modes of social behavior.</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Over 300 different versions of the Cinderella tale exist from around the world, and all of them have certain archetypal characteristics: wicked step-mother, mean sisters, handsome prince who rescues the girl.  These common characteristics are qualities that strike a strong emotional reaction in all who own the sto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onanc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vowel sound within two or more words, usually with different consonant sounds either before or after the same vowel sound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Once upon a midnight </a:t>
            </a:r>
            <a:r>
              <a:rPr b="0" i="1" lang="en-US" sz="2800" spc="-1" strike="noStrike">
                <a:solidFill>
                  <a:srgbClr val="ffffff"/>
                </a:solidFill>
                <a:latin typeface="Tahoma"/>
              </a:rPr>
              <a:t>dreary</a:t>
            </a:r>
            <a:r>
              <a:rPr b="0" lang="en-US" sz="2800" spc="-1" strike="noStrike">
                <a:solidFill>
                  <a:srgbClr val="ffffff"/>
                </a:solidFill>
                <a:latin typeface="Tahoma"/>
              </a:rPr>
              <a:t>, while I pondered, </a:t>
            </a:r>
            <a:r>
              <a:rPr b="0" i="1" lang="en-US" sz="2800" spc="-1" strike="noStrike">
                <a:solidFill>
                  <a:srgbClr val="ffffff"/>
                </a:solidFill>
                <a:latin typeface="Tahoma"/>
              </a:rPr>
              <a:t>weak</a:t>
            </a:r>
            <a:r>
              <a:rPr b="0" lang="en-US" sz="2800" spc="-1" strike="noStrike">
                <a:solidFill>
                  <a:srgbClr val="ffffff"/>
                </a:solidFill>
                <a:latin typeface="Tahoma"/>
              </a:rPr>
              <a:t> and </a:t>
            </a:r>
            <a:r>
              <a:rPr b="0" i="1" lang="en-US" sz="2800" spc="-1" strike="noStrike">
                <a:solidFill>
                  <a:srgbClr val="ffffff"/>
                </a:solidFill>
                <a:latin typeface="Tahoma"/>
              </a:rPr>
              <a:t>weary,</a:t>
            </a:r>
            <a:r>
              <a:rPr b="0" lang="en-US" sz="2800" spc="-1" strike="noStrike">
                <a:solidFill>
                  <a:srgbClr val="ffffff"/>
                </a:solidFill>
                <a:latin typeface="Tahoma"/>
              </a:rPr>
              <a:t>” Edgar Allan Poe’s “The Raven.”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ou foster child of silence and slow time,” John Keat’s “Ode on a Grecian U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yndeton</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where commas are used with no conjunctions to separate a series of wor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equal weight to each pa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s up the flow of the sent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ula: X, Y, Z.  As opposed to X, Y, and Z.</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a:t>
            </a:r>
            <a:r>
              <a:rPr b="0" i="1" lang="en-US" sz="3200" spc="-1" strike="noStrike">
                <a:solidFill>
                  <a:srgbClr val="ffffff"/>
                </a:solidFill>
                <a:latin typeface="Tahoma"/>
              </a:rPr>
              <a:t>polysyndeton</a:t>
            </a:r>
            <a:r>
              <a:rPr b="0" lang="en-US" sz="3200" spc="-1" strike="noStrike">
                <a:solidFill>
                  <a:srgbClr val="ffffff"/>
                </a:solidFill>
                <a:latin typeface="Tahoma"/>
              </a:rPr>
              <a:t> for vari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hos</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u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ymology: Gree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udden drop from the sublime or elevated to the ludicrou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nticlimax.</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Within the last decade, the Catholic community in North America has faced its greatest bathos as they wrestle with the dozens of arrests and convictions of priests for child molest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mbast</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ly meant “cotton stuff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to signify verbose and inflated diction that is disproportionate to the matter it express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r with the heroic drama of the late seventeenth and early eighteenth centuri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a century after the height of this style, James Fenimore Cooper’s </a:t>
            </a:r>
            <a:r>
              <a:rPr b="0" i="1" lang="en-US" sz="2800" spc="-1" strike="noStrike">
                <a:solidFill>
                  <a:srgbClr val="ffffff"/>
                </a:solidFill>
                <a:latin typeface="Tahoma"/>
              </a:rPr>
              <a:t>Leatherstocking Sagas</a:t>
            </a:r>
            <a:r>
              <a:rPr b="0" lang="en-US" sz="2800" spc="-1" strike="noStrike">
                <a:solidFill>
                  <a:srgbClr val="ffffff"/>
                </a:solidFill>
                <a:latin typeface="Tahoma"/>
              </a:rPr>
              <a:t> (</a:t>
            </a:r>
            <a:r>
              <a:rPr b="0" i="1" lang="en-US" sz="2800" spc="-1" strike="noStrike">
                <a:solidFill>
                  <a:srgbClr val="ffffff"/>
                </a:solidFill>
                <a:latin typeface="Tahoma"/>
              </a:rPr>
              <a:t>Last of the Mohicans</a:t>
            </a:r>
            <a:r>
              <a:rPr b="0" lang="en-US" sz="2800" spc="-1" strike="noStrike">
                <a:solidFill>
                  <a:srgbClr val="ffffff"/>
                </a:solidFill>
                <a:latin typeface="Tahoma"/>
              </a:rPr>
              <a:t> for example) are typical of bombastic speech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wdlerize</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d after Thomas Bowdler, who tidied up his </a:t>
            </a:r>
            <a:r>
              <a:rPr b="0" i="1" lang="en-US" sz="3200" spc="-1" strike="noStrike">
                <a:solidFill>
                  <a:srgbClr val="ffffff"/>
                </a:solidFill>
                <a:latin typeface="Tahoma"/>
              </a:rPr>
              <a:t>Family Shakespeare</a:t>
            </a:r>
            <a:r>
              <a:rPr b="0" lang="en-US" sz="3200" spc="-1" strike="noStrike">
                <a:solidFill>
                  <a:srgbClr val="ffffff"/>
                </a:solidFill>
                <a:latin typeface="Tahoma"/>
              </a:rPr>
              <a:t> in 1815 by omitting whatever is unfit to be read by a gentleman in the presence of a lad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to expurgate from a work any passages considered indecent or indelicate.</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school and some college texts are guilty of this censur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asmus</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ngement of repeated thoughts in the pattern of X Y Y X.</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ually short and summarizes the main id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rom Yeats’ “An Irish Airman Foresees His Death,” the poet write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2800" spc="-1" strike="noStrike">
                <a:solidFill>
                  <a:srgbClr val="ffffff"/>
                </a:solidFill>
                <a:latin typeface="Tahoma"/>
              </a:rPr>
              <a:t>“</a:t>
            </a:r>
            <a:r>
              <a:rPr b="0" i="1" lang="en-US" sz="2800" spc="-1" strike="noStrike">
                <a:solidFill>
                  <a:srgbClr val="ffffff"/>
                </a:solidFill>
                <a:latin typeface="Tahoma"/>
              </a:rPr>
              <a:t>The years to come seemed waste of breath,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A waste of breath the years behi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in a verb</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not a literary term, but it confused more than one student.  So, I am including it here.</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oin</a:t>
            </a:r>
            <a:r>
              <a:rPr b="0" lang="en-US" sz="2400" spc="-1" strike="noStrike">
                <a:solidFill>
                  <a:srgbClr val="ffffff"/>
                </a:solidFill>
                <a:latin typeface="Tahoma"/>
              </a:rPr>
              <a:t> (intransitive verb) means “to inven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s, to “coin a verb” is to “invent a verb.”</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 “coined” more than 1,700 words by changing nouns to verbs, making verbs adjectives, making new combination of words paired together, etc.</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t>
            </a:r>
            <a:r>
              <a:rPr b="0" lang="en-US" sz="2400" spc="-1" strike="noStrike">
                <a:solidFill>
                  <a:srgbClr val="ffffff"/>
                </a:solidFill>
                <a:latin typeface="Tahoma"/>
              </a:rPr>
              <a:t>	</a:t>
            </a:r>
            <a:r>
              <a:rPr b="0" lang="en-US" sz="2400" spc="-1" strike="noStrike">
                <a:solidFill>
                  <a:srgbClr val="ffffff"/>
                </a:solidFill>
                <a:latin typeface="Tahoma"/>
              </a:rPr>
              <a:t>Olivia: “There lies your way, due west.”</a:t>
            </a:r>
            <a:endParaRPr b="0" lang="en-US" sz="2400" spc="-1" strike="noStrike">
              <a:solidFill>
                <a:srgbClr val="ffffff"/>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ffff"/>
                </a:solidFill>
                <a:latin typeface="Tahoma"/>
              </a:rPr>
              <a:t>Viola:</a:t>
            </a:r>
            <a:r>
              <a:rPr b="0" lang="en-US" sz="2000" spc="-1" strike="noStrike">
                <a:solidFill>
                  <a:srgbClr val="ffffff"/>
                </a:solidFill>
                <a:latin typeface="Tahoma"/>
              </a:rPr>
              <a:t>   “Then westward ho!”</a:t>
            </a:r>
            <a:endParaRPr b="0" lang="en-US" sz="2000" spc="-1" strike="noStrike">
              <a:solidFill>
                <a:srgbClr val="ffffff"/>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Shakespeare’s </a:t>
            </a:r>
            <a:r>
              <a:rPr b="0" i="1" lang="en-US" sz="2000" spc="-1" strike="noStrike">
                <a:solidFill>
                  <a:srgbClr val="ffffff"/>
                </a:solidFill>
                <a:latin typeface="Tahoma"/>
              </a:rPr>
              <a:t>Twelfth Night</a:t>
            </a:r>
            <a:r>
              <a:rPr b="0" lang="en-US" sz="2000" spc="-1" strike="noStrike">
                <a:solidFill>
                  <a:srgbClr val="ffffff"/>
                </a:solidFill>
                <a:latin typeface="Tahoma"/>
              </a:rPr>
              <a:t>, Act III, Scene I, Line 135.</a:t>
            </a:r>
            <a:endParaRPr b="0" lang="en-US" sz="20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words Shakespeare coined: advertising, alligator, anchovy, countless, gust, investment, obscene, puke, puppy dog, tranquil, z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 hominem</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in for “against the m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king the person instead of the argument proposed by that individua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rgument directed to the personality, prejudices, previous words and actions of an opponent rather than an appeal to pure rea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Rush Limbaugh is a big fat idiot,” writes left-wing comedian Al Frank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knowledge</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d beliefs or assumptions between the reader and the audi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argue that if something is widely believed, readers should accept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lf-evident, obvious truth, especially one too obvious to mention is a </a:t>
            </a:r>
            <a:r>
              <a:rPr b="0" i="1" lang="en-US" sz="3200" spc="-1" strike="noStrike">
                <a:solidFill>
                  <a:srgbClr val="ffffff"/>
                </a:solidFill>
                <a:latin typeface="Tahoma"/>
              </a:rPr>
              <a:t>truism</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onance</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consonant sound within two or more words in close proximit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refers to repetition of consonant sounds in the middle or at the end of wor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nd </a:t>
            </a:r>
            <a:r>
              <a:rPr b="0" i="1" lang="en-US" sz="2800" spc="-1" strike="noStrike">
                <a:solidFill>
                  <a:srgbClr val="ffffff"/>
                </a:solidFill>
                <a:latin typeface="Tahoma"/>
              </a:rPr>
              <a:t>all</a:t>
            </a:r>
            <a:r>
              <a:rPr b="0" lang="en-US" sz="2800" spc="-1" strike="noStrike">
                <a:solidFill>
                  <a:srgbClr val="ffffff"/>
                </a:solidFill>
                <a:latin typeface="Tahoma"/>
              </a:rPr>
              <a:t> the air a </a:t>
            </a:r>
            <a:r>
              <a:rPr b="0" i="1" lang="en-US" sz="2800" spc="-1" strike="noStrike">
                <a:solidFill>
                  <a:srgbClr val="ffffff"/>
                </a:solidFill>
                <a:latin typeface="Tahoma"/>
              </a:rPr>
              <a:t>solemn stillness</a:t>
            </a:r>
            <a:r>
              <a:rPr b="0" lang="en-US" sz="2800" spc="-1" strike="noStrike">
                <a:solidFill>
                  <a:srgbClr val="ffffff"/>
                </a:solidFill>
                <a:latin typeface="Tahoma"/>
              </a:rPr>
              <a:t> </a:t>
            </a:r>
            <a:r>
              <a:rPr b="0" i="1" lang="en-US" sz="2800" spc="-1" strike="noStrike">
                <a:solidFill>
                  <a:srgbClr val="ffffff"/>
                </a:solidFill>
                <a:latin typeface="Tahoma"/>
              </a:rPr>
              <a:t>holds</a:t>
            </a:r>
            <a:r>
              <a:rPr b="0" lang="en-US" sz="2800" spc="-1" strike="noStrike">
                <a:solidFill>
                  <a:srgbClr val="ffffff"/>
                </a:solidFill>
                <a:latin typeface="Tahoma"/>
              </a:rPr>
              <a:t>.” from Thomas Gray’s “Elegy Written in a Country Churchyar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refers to </a:t>
            </a:r>
            <a:r>
              <a:rPr b="0" i="1" lang="en-US" sz="2800" spc="-1" strike="noStrike">
                <a:solidFill>
                  <a:srgbClr val="ffffff"/>
                </a:solidFill>
                <a:latin typeface="Tahoma"/>
              </a:rPr>
              <a:t>slant rhyme</a:t>
            </a:r>
            <a:r>
              <a:rPr b="0" lang="en-US" sz="2800" spc="-1" strike="noStrike">
                <a:solidFill>
                  <a:srgbClr val="ffffff"/>
                </a:solidFill>
                <a:latin typeface="Tahoma"/>
              </a:rPr>
              <a:t> or </a:t>
            </a:r>
            <a:r>
              <a:rPr b="0" i="1" lang="en-US" sz="2800" spc="-1" strike="noStrike">
                <a:solidFill>
                  <a:srgbClr val="ffffff"/>
                </a:solidFill>
                <a:latin typeface="Tahoma"/>
              </a:rPr>
              <a:t>partial rhyme</a:t>
            </a:r>
            <a:r>
              <a:rPr b="0" lang="en-US" sz="2800" spc="-1" strike="noStrike">
                <a:solidFill>
                  <a:srgbClr val="ffffff"/>
                </a:solidFill>
                <a:latin typeface="Tahoma"/>
              </a:rPr>
              <a:t>: Initial and final consonants are the same but the vowels are differen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t>
            </a:r>
            <a:r>
              <a:rPr b="0" i="1" lang="en-US" sz="2800" spc="-1" strike="noStrike">
                <a:solidFill>
                  <a:srgbClr val="ffffff"/>
                </a:solidFill>
                <a:latin typeface="Tahoma"/>
              </a:rPr>
              <a:t>litter</a:t>
            </a:r>
            <a:r>
              <a:rPr b="0" lang="en-US" sz="2800" spc="-1" strike="noStrike">
                <a:solidFill>
                  <a:srgbClr val="ffffff"/>
                </a:solidFill>
                <a:latin typeface="Tahoma"/>
              </a:rPr>
              <a:t> and </a:t>
            </a:r>
            <a:r>
              <a:rPr b="0" i="1" lang="en-US" sz="2800" spc="-1" strike="noStrike">
                <a:solidFill>
                  <a:srgbClr val="ffffff"/>
                </a:solidFill>
                <a:latin typeface="Tahoma"/>
              </a:rPr>
              <a:t>letter</a:t>
            </a:r>
            <a:r>
              <a:rPr b="0" lang="en-US" sz="2800" spc="-1" strike="noStrike">
                <a:solidFill>
                  <a:srgbClr val="ffffff"/>
                </a:solidFill>
                <a:latin typeface="Tahoma"/>
              </a:rPr>
              <a:t>, or </a:t>
            </a:r>
            <a:r>
              <a:rPr b="0" i="1" lang="en-US" sz="2800" spc="-1" strike="noStrike">
                <a:solidFill>
                  <a:srgbClr val="ffffff"/>
                </a:solidFill>
                <a:latin typeface="Tahoma"/>
              </a:rPr>
              <a:t>green</a:t>
            </a:r>
            <a:r>
              <a:rPr b="0" lang="en-US" sz="2800" spc="-1" strike="noStrike">
                <a:solidFill>
                  <a:srgbClr val="ffffff"/>
                </a:solidFill>
                <a:latin typeface="Tahoma"/>
              </a:rPr>
              <a:t> and </a:t>
            </a:r>
            <a:r>
              <a:rPr b="0" i="1" lang="en-US" sz="2800" spc="-1" strike="noStrike">
                <a:solidFill>
                  <a:srgbClr val="ffffff"/>
                </a:solidFill>
                <a:latin typeface="Tahoma"/>
              </a:rPr>
              <a:t>groa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ventional</a:t>
            </a: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ing certain conventions, or traditional techniques of writ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reliance on conventions may result in a lack of origina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ive-paragraph theme is a </a:t>
            </a:r>
            <a:r>
              <a:rPr b="0" i="1" lang="en-US" sz="3200" spc="-1" strike="noStrike">
                <a:solidFill>
                  <a:srgbClr val="ffffff"/>
                </a:solidFill>
                <a:latin typeface="Tahoma"/>
              </a:rPr>
              <a:t>conventional</a:t>
            </a:r>
            <a:r>
              <a:rPr b="0" lang="en-US" sz="3200" spc="-1" strike="noStrike">
                <a:solidFill>
                  <a:srgbClr val="ffffff"/>
                </a:solidFill>
                <a:latin typeface="Tahoma"/>
              </a:rPr>
              <a:t> format of argu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onstruction</a:t>
            </a:r>
            <a:endParaRPr b="0" lang="en-US" sz="44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ritical approach that debunks single definitions of meaning based upon the instability of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nstructionist: reexamines literary conventions in light of the belief that because of the instability of language, the text has already dismantled itsel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atribe</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Latin </a:t>
            </a:r>
            <a:r>
              <a:rPr b="0" i="1" lang="en-US" sz="2800" spc="-1" strike="noStrike">
                <a:solidFill>
                  <a:srgbClr val="ffffff"/>
                </a:solidFill>
                <a:latin typeface="Tahoma"/>
              </a:rPr>
              <a:t>diatriba</a:t>
            </a:r>
            <a:r>
              <a:rPr b="0" lang="en-US" sz="2800" spc="-1" strike="noStrike">
                <a:solidFill>
                  <a:srgbClr val="ffffff"/>
                </a:solidFill>
                <a:latin typeface="Tahoma"/>
              </a:rPr>
              <a:t> meaning “to spend time,” or “to wear awa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aic meaning: a prolonged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itter and abusive speech or wri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ical or satirical criticis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e challenging candidate shouted his diatribe against the incumbent platform to several thousand supporters in attend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ction</a:t>
            </a: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word choi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word choice as a reflection of sty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types and arrangements of words have significant effects on mea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 tone, point of view, persona, verve, color, all are affected by di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dactic</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ction or nonfiction that teaches a specific lesson or moral or provides a model of correct behavior or think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ed to expound a branch of theoretical, moral, or practical knowledge, or else to instantiate, in an impressive and persuasive imaginative or fictional form, a moral, religious, or philosophical theme or doctrin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On the Nature of Things” by Lucretius; “Essay on Man” by Pope; “Faerie Queene” by Spencer; “The Pilgrim’s Progress” by Buny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uble entendre </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rruption of a French phrase meaning "double meaning."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rm is used to indicate a word or phrase that is deliberately ambiguous, especially when one of the meanings is risqué or impro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e Elizabethan usage of the verb "die," which refers both to death and to orgas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ither-or reaso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ing an argument or issue to two polar opposites and ignoring any alternativ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motional appeal</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ealing to the emotions of the reader in order to excite and involve them in the argu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s use of </a:t>
            </a:r>
            <a:r>
              <a:rPr b="0" i="1" lang="en-US" sz="3200" spc="-1" strike="noStrike">
                <a:solidFill>
                  <a:srgbClr val="ffffff"/>
                </a:solidFill>
                <a:latin typeface="Tahoma"/>
              </a:rPr>
              <a:t>pathos</a:t>
            </a:r>
            <a:r>
              <a:rPr b="0" lang="en-US" sz="3200" spc="-1" strike="noStrike">
                <a:solidFill>
                  <a:srgbClr val="ffffff"/>
                </a:solidFill>
                <a:latin typeface="Tahoma"/>
              </a:rPr>
              <a:t>: the quality in an experience, narrative, literary work, etc., which arouses profound feelings of compassion or sorr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athos</a:t>
            </a:r>
            <a:r>
              <a:rPr b="0" lang="en-US" sz="3200" spc="-1" strike="noStrike">
                <a:solidFill>
                  <a:srgbClr val="ffffff"/>
                </a:solidFill>
                <a:latin typeface="Tahoma"/>
              </a:rPr>
              <a:t> is Greek for “suffer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erbial phrase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let’s define an adverb: word that modifies a verb, verb form, adjective or another adverb.</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an adverbial phrases is a group of words that modifies, as a single unit, a verb, verb form, adjective or another adverb.</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He lost the first game </a:t>
            </a:r>
            <a:r>
              <a:rPr b="0" i="1" lang="en-US" sz="3200" spc="-1" strike="noStrike">
                <a:solidFill>
                  <a:srgbClr val="ffffff"/>
                </a:solidFill>
                <a:latin typeface="Tahoma"/>
              </a:rPr>
              <a:t>due to carelessn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c simile</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and sustained similes that are developed far beyond its specific points of parallel to the primary subjec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subject is called “teno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subject (the simile) is called “vehic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mer (</a:t>
            </a:r>
            <a:r>
              <a:rPr b="0" i="1" lang="en-US" sz="2400" spc="-1" strike="noStrike">
                <a:solidFill>
                  <a:srgbClr val="ffffff"/>
                </a:solidFill>
                <a:latin typeface="Tahoma"/>
              </a:rPr>
              <a:t>Iliad</a:t>
            </a:r>
            <a:r>
              <a:rPr b="0" lang="en-US" sz="2400" spc="-1" strike="noStrike">
                <a:solidFill>
                  <a:srgbClr val="ffffff"/>
                </a:solidFill>
                <a:latin typeface="Tahoma"/>
              </a:rPr>
              <a:t> and </a:t>
            </a:r>
            <a:r>
              <a:rPr b="0" i="1" lang="en-US" sz="2400" spc="-1" strike="noStrike">
                <a:solidFill>
                  <a:srgbClr val="ffffff"/>
                </a:solidFill>
                <a:latin typeface="Tahoma"/>
              </a:rPr>
              <a:t>Odyssey</a:t>
            </a:r>
            <a:r>
              <a:rPr b="0" lang="en-US" sz="2400" spc="-1" strike="noStrike">
                <a:solidFill>
                  <a:srgbClr val="ffffff"/>
                </a:solidFill>
                <a:latin typeface="Tahoma"/>
              </a:rPr>
              <a:t>) invented the technique; Virgil, Milton and other epic writers copied the sty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Milton in </a:t>
            </a:r>
            <a:r>
              <a:rPr b="0" i="1" lang="en-US" sz="2400" spc="-1" strike="noStrike">
                <a:solidFill>
                  <a:srgbClr val="ffffff"/>
                </a:solidFill>
                <a:latin typeface="Tahoma"/>
              </a:rPr>
              <a:t>Paradise Lost I</a:t>
            </a:r>
            <a:r>
              <a:rPr b="0" lang="en-US" sz="2400" spc="-1" strike="noStrike">
                <a:solidFill>
                  <a:srgbClr val="ffffff"/>
                </a:solidFill>
                <a:latin typeface="Tahoma"/>
              </a:rPr>
              <a:t>, lines 768-76 describes the fallen angels (tenor) thronging towards their newly built palace of Pandemonium by an elaborate comparison to swarming of bees (vehicle) that lasts an entire st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graph</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quotation or aphorism at the beginning of a literary work suggestive of the theme of the fiction or nonfiction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
            </a:r>
            <a:r>
              <a:rPr b="0" i="1" lang="en-US" sz="3200" spc="-1" strike="noStrike">
                <a:solidFill>
                  <a:srgbClr val="ffffff"/>
                </a:solidFill>
                <a:latin typeface="Tahoma"/>
              </a:rPr>
              <a:t>aphorism</a:t>
            </a:r>
            <a:r>
              <a:rPr b="0" lang="en-US" sz="3200" spc="-1" strike="noStrike">
                <a:solidFill>
                  <a:srgbClr val="ffffff"/>
                </a:solidFill>
                <a:latin typeface="Tahoma"/>
              </a:rPr>
              <a:t> is a short clever saying parting truth.  Example: “waste not, want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gram</a:t>
            </a: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ly in Greek meant “an inscrip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ed to encompass a very short poem whether amorous (sexual love), elegiac (longing for the past), meditative (contemplative), anecdotal (description, story, episode), or satiric (witty, sarcas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em is polished, condensed, and pointed, often with a witty end.</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his epigram “On a Volunteer Singer” Coleridge explai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wans sing before they die—’twere no bad th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ould certain people die before they s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phany</a:t>
            </a:r>
            <a:endParaRPr b="0" lang="en-US" sz="4400" spc="-1" strike="noStrike">
              <a:solidFill>
                <a:srgbClr val="ffffcc"/>
              </a:solidFill>
              <a:latin typeface="Tahoma"/>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lly means “a manifes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ally, Christianity used the word to signify a manifestation of God’s presence in the worl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ishman James Joyce, in </a:t>
            </a:r>
            <a:r>
              <a:rPr b="0" i="1" lang="en-US" sz="2800" spc="-1" strike="noStrike">
                <a:solidFill>
                  <a:srgbClr val="ffffff"/>
                </a:solidFill>
                <a:latin typeface="Tahoma"/>
              </a:rPr>
              <a:t>A Portrait of the Artist as a Young Man</a:t>
            </a:r>
            <a:r>
              <a:rPr b="0" lang="en-US" sz="2800" spc="-1" strike="noStrike">
                <a:solidFill>
                  <a:srgbClr val="ffffff"/>
                </a:solidFill>
                <a:latin typeface="Tahoma"/>
              </a:rPr>
              <a:t>, first adapted the word to a secular meaning: a sudden radiance and revelation while observing a commonplace objec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yce replaced what earlier writers had called “the moment,” an instance or moment of revel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oqu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type of pun that makes use of a single word or phrase which has two disparate meanings, in a context which makes both meanings equally relevan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t of writing this pun is </a:t>
            </a:r>
            <a:r>
              <a:rPr b="0" i="1" lang="en-US" sz="3200" spc="-1" strike="noStrike">
                <a:solidFill>
                  <a:srgbClr val="ffffff"/>
                </a:solidFill>
                <a:latin typeface="Tahoma"/>
              </a:rPr>
              <a:t>equivocation</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n example, an epitaph for a bank teller might read:</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checked his cash, cashed in his checks,</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left his window.  Who is nex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hical appeal</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tries to persuade the audience to respect him or her based upon a presentation of self through the tex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tation of the author is often a factor in ethical appeals.</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ardless of the topic or over-all purpose of the essay, the ethical appeal is always done to gain the audience’s conf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ho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ymology: Greek.</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erson’s character or disposition.</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istic spirit or prevalent tone of a people or a community.</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ssential identity of an institution or system.</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 excellence; nobler than reality.</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e real is preferred to the ideal, transient emotions to permanent lineaments, pathos to eth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uphemism</a:t>
            </a: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iginally in Greek meant “to speak well.”</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come to mean: to speak well in the place of the blunt, disagreeable, terrifying or offensive term.</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death becomes “to pass away.”</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Damn it” becomes “Darn it!”</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Victorians first used “limb” for leg or “privates” for sexual org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osition</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rmation provided by author to enhance the audience’s understanding of the context of a fiction or nonfiction stor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Robert Louis Stevenson gives the reader plenty of cultural background on the small seaside village of his youth in hopes the audience will better appreciate the context of “The Lantern-Bear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ight-train</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consisting three or more very short independent clauses joined by conjun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ction or nonfiction narrative, in which characters, things, and events represent qualities, moral values, or concepts.</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ing out of the narrative is designed to reveal an abstraction or truth.</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s and other elements may be symbolic of the ideas referred to in the allegory.</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t>
            </a:r>
            <a:r>
              <a:rPr b="0" i="1" lang="en-US" sz="2800" spc="-1" strike="noStrike">
                <a:solidFill>
                  <a:srgbClr val="ffffff"/>
                </a:solidFill>
                <a:latin typeface="Tahoma"/>
              </a:rPr>
              <a:t>The Pilgrim’s Progress</a:t>
            </a:r>
            <a:r>
              <a:rPr b="0" lang="en-US" sz="2800" spc="-1" strike="noStrike">
                <a:solidFill>
                  <a:srgbClr val="ffffff"/>
                </a:solidFill>
                <a:latin typeface="Tahoma"/>
              </a:rPr>
              <a:t> by John Bunyan or </a:t>
            </a:r>
            <a:r>
              <a:rPr b="0" i="1" lang="en-US" sz="2800" spc="-1" strike="noStrike">
                <a:solidFill>
                  <a:srgbClr val="ffffff"/>
                </a:solidFill>
                <a:latin typeface="Tahoma"/>
              </a:rPr>
              <a:t>A Scarlet Letter</a:t>
            </a:r>
            <a:r>
              <a:rPr b="0" lang="en-US" sz="2800" spc="-1" strike="noStrike">
                <a:solidFill>
                  <a:srgbClr val="ffffff"/>
                </a:solidFill>
                <a:latin typeface="Tahoma"/>
              </a:rPr>
              <a:t> by Nathaniel Hawthor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bole</a:t>
            </a: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ly in Greek meant “overshooting.”</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old overstatement or extravagant expression of fact, used for serious or comic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ly recognized as exaggeration for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re must have been ten million people at our Wal-Mart on the day after Thanksgiving.</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 Shakespeare’s, </a:t>
            </a:r>
            <a:r>
              <a:rPr b="0" i="1" lang="en-US" sz="2400" spc="-1" strike="noStrike">
                <a:solidFill>
                  <a:srgbClr val="ffffff"/>
                </a:solidFill>
                <a:latin typeface="Tahoma"/>
              </a:rPr>
              <a:t>Othello</a:t>
            </a:r>
            <a:r>
              <a:rPr b="0" lang="en-US" sz="2400" spc="-1" strike="noStrike">
                <a:solidFill>
                  <a:srgbClr val="ffffff"/>
                </a:solidFill>
                <a:latin typeface="Tahoma"/>
              </a:rPr>
              <a:t>, Act III, Scene III, Lines 330-33 read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ot poppy nor mandragor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or all the drowsy syrups of the worl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all ever medicine thee to that sweet slee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ich thou ow ‘dst yester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agery</a:t>
            </a: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images, especially in a pattern of related images, often figurative, to create a strong, unified sensory impres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sensory details to create images that support the theme of the ess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rsion</a:t>
            </a: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tion of the normal word order (subject, verb, complement) which puts the verb or complement at the head of the sent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entence element appearing first is emphasized more than the subject that is buried in the sent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ted in Greek comedy with the character </a:t>
            </a:r>
            <a:r>
              <a:rPr b="0" i="1" lang="en-US" sz="2800" spc="-1" strike="noStrike">
                <a:solidFill>
                  <a:srgbClr val="ffffff"/>
                </a:solidFill>
                <a:latin typeface="Tahoma"/>
              </a:rPr>
              <a:t>eiron</a:t>
            </a:r>
            <a:r>
              <a:rPr b="0" lang="en-US" sz="2800" spc="-1" strike="noStrike">
                <a:solidFill>
                  <a:srgbClr val="ffffff"/>
                </a:solidFill>
                <a:latin typeface="Tahoma"/>
              </a:rPr>
              <a:t>, who was a “dissembler.”  Appeared less intelligent than he was, spoke in understatement, and triumphed over the </a:t>
            </a:r>
            <a:r>
              <a:rPr b="0" i="1" lang="en-US" sz="2800" spc="-1" strike="noStrike">
                <a:solidFill>
                  <a:srgbClr val="ffffff"/>
                </a:solidFill>
                <a:latin typeface="Tahoma"/>
              </a:rPr>
              <a:t>alazon</a:t>
            </a:r>
            <a:r>
              <a:rPr b="0" lang="en-US" sz="2800" spc="-1" strike="noStrike">
                <a:solidFill>
                  <a:srgbClr val="ffffff"/>
                </a:solidFill>
                <a:latin typeface="Tahoma"/>
              </a:rPr>
              <a:t>—the self-deceiving and stupid braggar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ek dramatist Sophocles developed the “tragic” or “dramatic” irony in his 100-plus tragedies, including </a:t>
            </a:r>
            <a:r>
              <a:rPr b="0" i="1" lang="en-US" sz="2800" spc="-1" strike="noStrike">
                <a:solidFill>
                  <a:srgbClr val="ffffff"/>
                </a:solidFill>
                <a:latin typeface="Tahoma"/>
              </a:rPr>
              <a:t>Antigone</a:t>
            </a:r>
            <a:r>
              <a:rPr b="0" lang="en-US" sz="2800" spc="-1" strike="noStrike">
                <a:solidFill>
                  <a:srgbClr val="ffffff"/>
                </a:solidFill>
                <a:latin typeface="Tahoma"/>
              </a:rPr>
              <a:t> and </a:t>
            </a:r>
            <a:r>
              <a:rPr b="0" i="1" lang="en-US" sz="2800" spc="-1" strike="noStrike">
                <a:solidFill>
                  <a:srgbClr val="ffffff"/>
                </a:solidFill>
                <a:latin typeface="Tahoma"/>
              </a:rPr>
              <a:t>Oedipus Rex</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kinds of irony: verbal, structural, dramatic, and situat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verbal)</a:t>
            </a:r>
            <a:endParaRPr b="0" lang="en-US" sz="4400" spc="-1" strike="noStrike">
              <a:solidFill>
                <a:srgbClr val="ffffcc"/>
              </a:solidFill>
              <a:latin typeface="Tahoma"/>
            </a:endParaRPr>
          </a:p>
        </p:txBody>
      </p:sp>
      <p:sp>
        <p:nvSpPr>
          <p:cNvPr id="182" name="PlaceHolder 2"/>
          <p:cNvSpPr>
            <a:spLocks noGrp="1"/>
          </p:cNvSpPr>
          <p:nvPr>
            <p:ph/>
          </p:nvPr>
        </p:nvSpPr>
        <p:spPr>
          <a:xfrm>
            <a:off x="380880" y="1600200"/>
            <a:ext cx="8229600" cy="4952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erbal irony</a:t>
            </a:r>
            <a:r>
              <a:rPr b="0" lang="en-US" sz="2000" spc="-1" strike="noStrike">
                <a:solidFill>
                  <a:srgbClr val="ffffff"/>
                </a:solidFill>
                <a:latin typeface="Tahoma"/>
              </a:rPr>
              <a:t>: demands the most audience sophistication.  This requires “reading between the line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this irony takes the greatest risks with the audience who might misinterpret what is irony and what is literal.</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ght be simple reversal of literal meanings of words spoken or more complex, subtle, indirect and unobtrusive messages that require the collection of hints from within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iments the intelligence of the reader, who, by perceiving the irony, is in partnership with the author and the minority of characters who understand, too.</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It is truth universally acknowledged that a single man in possession of a good fortune must be in want of a wife” (Jane Austen </a:t>
            </a:r>
            <a:r>
              <a:rPr b="0" i="1" lang="en-US" sz="2000" spc="-1" strike="noStrike">
                <a:solidFill>
                  <a:srgbClr val="ffffff"/>
                </a:solidFill>
                <a:latin typeface="Tahoma"/>
              </a:rPr>
              <a:t>Pride and Prejudice)</a:t>
            </a:r>
            <a:r>
              <a:rPr b="0" lang="en-US" sz="2000" spc="-1" strike="noStrike">
                <a:solidFill>
                  <a:srgbClr val="ffffff"/>
                </a:solidFill>
                <a:latin typeface="Tahoma"/>
              </a:rPr>
              <a:t>.  The subtle irony is that a single woman is in want of a rich husband as manifested by the evidence in the novel that follows this opening line.</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rcasm: a type of verbal irony that is crude and blatant praise or dispraise.  Example: “Oh, you’re God’s great gift to women, you 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structural)</a:t>
            </a:r>
            <a:endParaRPr b="0" lang="en-US" sz="44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ructural irony</a:t>
            </a:r>
            <a:r>
              <a:rPr b="0" lang="en-US" sz="2400" spc="-1" strike="noStrike">
                <a:solidFill>
                  <a:srgbClr val="ffffff"/>
                </a:solidFill>
                <a:latin typeface="Tahoma"/>
              </a:rPr>
              <a:t>: some works show sustained irony throughout the text.  </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ead of using occasional verbal irony, the author introduces a structural feature which serves to sustain duplicity of meaning.</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device: naïve hero or naïve narrator.</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Jonathan Swift’s well-meaning but insanely rational economist who is the naïve narrator in “A Modest Proposal.” The reader perceives the irony of one who, though well meaning, proposes the conversion of the excess children of the oppressed and poverty-stricken Irish into financial and gastronomical asse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dramatic)</a:t>
            </a: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a situation in a play or narrative in which the audience shares with the author knowledge of which the character is ignoran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 expects the opposite of what is destined, or says something that anticipates the outcome, but not in a way that is meant when sai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a:t>
            </a:r>
            <a:r>
              <a:rPr b="0" i="1" lang="en-US" sz="2800" spc="-1" strike="noStrike">
                <a:solidFill>
                  <a:srgbClr val="ffffff"/>
                </a:solidFill>
                <a:latin typeface="Tahoma"/>
              </a:rPr>
              <a:t>Macbeth</a:t>
            </a:r>
            <a:r>
              <a:rPr b="0" lang="en-US" sz="2800" spc="-1" strike="noStrike">
                <a:solidFill>
                  <a:srgbClr val="ffffff"/>
                </a:solidFill>
                <a:latin typeface="Tahoma"/>
              </a:rPr>
              <a:t>, by Act I, Scene I, the audience knows that Macbeth and Lady Macbeth have already planned out Duncan’s murder—yet King Duncan never suspects that he is walking into a tra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situational) </a:t>
            </a:r>
            <a:endParaRPr b="0" lang="en-US" sz="44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writer shows a discrepancy between the expected results of some action or situation and it actual resul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k has a surprise ending, that, although a “surprise,” still fits the purpose, point of view, evidence and tone of the tex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Thomas Hardy’s “The Three Strangers,” it is a surprise to the characters and the audience when the two strangers at the chimney corner turn out to be the hangman and his intended victi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totes</a:t>
            </a:r>
            <a:endParaRPr b="0" lang="en-US" sz="4400" spc="-1" strike="noStrike">
              <a:solidFill>
                <a:srgbClr val="ffffcc"/>
              </a:solidFill>
              <a:latin typeface="Tahoma"/>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lítōtēs</a:t>
            </a:r>
            <a:r>
              <a:rPr b="0" lang="en-US" sz="2400" spc="-1" strike="noStrike">
                <a:solidFill>
                  <a:srgbClr val="ffffff"/>
                </a:solidFill>
                <a:latin typeface="Tahoma"/>
              </a:rPr>
              <a:t> for “plain” or “simp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rtion of an affirmative by negating its contrary. Example: “He’s not the brightest man in the world,” meaning “he is stupid.”</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a simple form of understatement, often in Anglo-Saxon poetry, like </a:t>
            </a:r>
            <a:r>
              <a:rPr b="0" i="1" lang="en-US" sz="2400" spc="-1" strike="noStrike">
                <a:solidFill>
                  <a:srgbClr val="ffffff"/>
                </a:solidFill>
                <a:latin typeface="Tahoma"/>
              </a:rPr>
              <a:t>Beowulf</a:t>
            </a:r>
            <a:r>
              <a:rPr b="0" lang="en-US" sz="2400" spc="-1" strike="noStrike">
                <a:solidFill>
                  <a:srgbClr val="ffffff"/>
                </a:solidFill>
                <a:latin typeface="Tahoma"/>
              </a:rPr>
              <a:t>, it is a statement of grim irony. Example, in describing the dwelling place of the monster Grendel, Hrothgar states, “That is not a pleasant pla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example: “He is two bricks shy of a full load,” meaning his reasoning powers are not all there.</a:t>
            </a:r>
            <a:endParaRPr b="0" lang="en-US" sz="24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lodramatic redundancy</a:t>
            </a: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P exam phrase incorporates two terms: </a:t>
            </a:r>
            <a:r>
              <a:rPr b="0" i="1" lang="en-US" sz="3200" spc="-1" strike="noStrike">
                <a:solidFill>
                  <a:srgbClr val="ffffff"/>
                </a:solidFill>
                <a:latin typeface="Tahoma"/>
              </a:rPr>
              <a:t>melodramatic</a:t>
            </a:r>
            <a:r>
              <a:rPr b="0" lang="en-US" sz="3200" spc="-1" strike="noStrike">
                <a:solidFill>
                  <a:srgbClr val="ffffff"/>
                </a:solidFill>
                <a:latin typeface="Tahoma"/>
              </a:rPr>
              <a:t> and </a:t>
            </a:r>
            <a:r>
              <a:rPr b="0" i="1" lang="en-US" sz="3200" spc="-1" strike="noStrike">
                <a:solidFill>
                  <a:srgbClr val="ffffff"/>
                </a:solidFill>
                <a:latin typeface="Tahoma"/>
              </a:rPr>
              <a:t>redundanc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lodramatic: exaggerated, sensational, overly dramatic.</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ndancy: the state of being unnecessarily repetitive or superfluou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a:t>
            </a:r>
            <a:r>
              <a:rPr b="0" i="1" lang="en-US" sz="3200" spc="-1" strike="noStrike">
                <a:solidFill>
                  <a:srgbClr val="ffffff"/>
                </a:solidFill>
                <a:latin typeface="Tahoma"/>
              </a:rPr>
              <a:t>melodramatic redundancy</a:t>
            </a:r>
            <a:r>
              <a:rPr b="0" lang="en-US" sz="3200" spc="-1" strike="noStrike">
                <a:solidFill>
                  <a:srgbClr val="ffffff"/>
                </a:solidFill>
                <a:latin typeface="Tahoma"/>
              </a:rPr>
              <a:t> means, “unnecessary repetition that is exaggerated, sensational and overly dramati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us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eference, explicit or indirect, to a person, place, or event, or to another literary work or passage.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ly speaking, the writer assumes the educated reader will recognize the reference.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ten humorous, but not always.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s a connection between writer and reader, or to make a subtle point.</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gulfs enchanted, where the </a:t>
            </a:r>
            <a:r>
              <a:rPr b="0" i="1" lang="en-US" sz="2800" spc="-1" strike="noStrike">
                <a:solidFill>
                  <a:srgbClr val="ffffff"/>
                </a:solidFill>
                <a:latin typeface="Tahoma"/>
              </a:rPr>
              <a:t>Siren </a:t>
            </a:r>
            <a:r>
              <a:rPr b="0" lang="en-US" sz="2800" spc="-1" strike="noStrike">
                <a:solidFill>
                  <a:srgbClr val="ffffff"/>
                </a:solidFill>
                <a:latin typeface="Tahoma"/>
              </a:rPr>
              <a:t>sing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aphor</a:t>
            </a: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figure of speech that compares two things which are basically dissimilar.  (Example: The ship </a:t>
            </a:r>
            <a:r>
              <a:rPr b="0" i="1" lang="en-US" sz="2000" spc="-1" strike="noStrike">
                <a:solidFill>
                  <a:srgbClr val="ffffff"/>
                </a:solidFill>
                <a:latin typeface="Tahoma"/>
              </a:rPr>
              <a:t>plowed</a:t>
            </a:r>
            <a:r>
              <a:rPr b="0" lang="en-US" sz="2000" spc="-1" strike="noStrike">
                <a:solidFill>
                  <a:srgbClr val="ffffff"/>
                </a:solidFill>
                <a:latin typeface="Tahoma"/>
              </a:rPr>
              <a:t> the sea.)</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like a simile, metaphors do not have a connective word (like, as, or than).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metaphors are implied or suggested. (Example: Anne Bradstreet in “Upon the Burning of Our House” calls heaven “the beautiful house” built by “the mightiest architec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n “extended” or “controlling” metaphor is used throughout the essa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ad metaphor is one that is overly used and is no longer considered figurative, but rather literal. (Example: the leg of a chair.)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ixed metaphor is the use of two or more inconsistent metaphors in one expression.  Mixed metaphors make no sense upon examination and are often used as humorous. (Example: To hold the fort, he’d have to shake a leg.)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onymy</a:t>
            </a: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metōnymía</a:t>
            </a:r>
            <a:r>
              <a:rPr b="0" lang="en-US" sz="2400" spc="-1" strike="noStrike">
                <a:solidFill>
                  <a:srgbClr val="ffffff"/>
                </a:solidFill>
                <a:latin typeface="Tahoma"/>
              </a:rPr>
              <a:t> for “change of nam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gure of speech where the term for one thing is applied for another with which it has become closely associated in experience, or where a part represents the who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crown” is figuratively the king.</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word “petticoat” represents femininity; whereas the word “pants” represents being in control.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inder: This is not a </a:t>
            </a:r>
            <a:r>
              <a:rPr b="0" i="1" lang="en-US" sz="2400" spc="-1" strike="noStrike">
                <a:solidFill>
                  <a:srgbClr val="ffffff"/>
                </a:solidFill>
                <a:latin typeface="Tahoma"/>
              </a:rPr>
              <a:t>synecdoche</a:t>
            </a:r>
            <a:r>
              <a:rPr b="0" lang="en-US" sz="2400" spc="-1" strike="noStrike">
                <a:solidFill>
                  <a:srgbClr val="ffffff"/>
                </a:solidFill>
                <a:latin typeface="Tahoma"/>
              </a:rPr>
              <a:t>; the tools are different.  For one, a metonymy is used so much that it has become a figure of speec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nologue</a:t>
            </a: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Greek </a:t>
            </a:r>
            <a:r>
              <a:rPr b="0" i="1" lang="en-US" sz="3200" spc="-1" strike="noStrike">
                <a:solidFill>
                  <a:srgbClr val="ffffff"/>
                </a:solidFill>
                <a:latin typeface="Tahoma"/>
              </a:rPr>
              <a:t>monologos</a:t>
            </a:r>
            <a:r>
              <a:rPr b="0" lang="en-US" sz="3200" spc="-1" strike="noStrike">
                <a:solidFill>
                  <a:srgbClr val="ffffff"/>
                </a:solidFill>
                <a:latin typeface="Tahoma"/>
              </a:rPr>
              <a:t> meaning “to speak alo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 speech by one person; a dramatic speech by one act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a “soliloquy” if the character speaks inner thoughts to the audience and no other character hea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side” is a short soliloqu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mosphere in the text created by the author’s tone towards the subjec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called “atmosphere” or “ambie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ls us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tyle (how sentences are combin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yntax (strength, length and complexity of each sente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ction (individual word cho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turalistic novel</a:t>
            </a: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P exam phrase incorporates two literary terms: </a:t>
            </a:r>
            <a:r>
              <a:rPr b="0" i="1" lang="en-US" sz="2800" spc="-1" strike="noStrike">
                <a:solidFill>
                  <a:srgbClr val="ffffff"/>
                </a:solidFill>
                <a:latin typeface="Tahoma"/>
              </a:rPr>
              <a:t>naturalism</a:t>
            </a:r>
            <a:r>
              <a:rPr b="0" lang="en-US" sz="2800" spc="-1" strike="noStrike">
                <a:solidFill>
                  <a:srgbClr val="ffffff"/>
                </a:solidFill>
                <a:latin typeface="Tahoma"/>
              </a:rPr>
              <a:t> and </a:t>
            </a:r>
            <a:r>
              <a:rPr b="0" i="1" lang="en-US" sz="2800" spc="-1" strike="noStrike">
                <a:solidFill>
                  <a:srgbClr val="ffffff"/>
                </a:solidFill>
                <a:latin typeface="Tahoma"/>
              </a:rPr>
              <a:t>novel</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ism: centering upon nature and excluding supernatural or spiritual elements, with special attention to effects of environment and heredity on human nature and action. </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el: extended fictional narrative that allows greater complication of plot and more subtle examinations of character.</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Jack London’s </a:t>
            </a:r>
            <a:r>
              <a:rPr b="0" i="1" lang="en-US" sz="2800" spc="-1" strike="noStrike">
                <a:solidFill>
                  <a:srgbClr val="ffffff"/>
                </a:solidFill>
                <a:latin typeface="Tahoma"/>
              </a:rPr>
              <a:t>Call of the Wind</a:t>
            </a:r>
            <a:r>
              <a:rPr b="0" lang="en-US" sz="2800" spc="-1" strike="noStrike">
                <a:solidFill>
                  <a:srgbClr val="ffffff"/>
                </a:solidFill>
                <a:latin typeface="Tahoma"/>
              </a:rPr>
              <a:t> and </a:t>
            </a:r>
            <a:r>
              <a:rPr b="0" i="1" lang="en-US" sz="2800" spc="-1" strike="noStrike">
                <a:solidFill>
                  <a:srgbClr val="ffffff"/>
                </a:solidFill>
                <a:latin typeface="Tahoma"/>
              </a:rPr>
              <a:t>White Fang</a:t>
            </a:r>
            <a:r>
              <a:rPr b="0" lang="en-US" sz="2800" spc="-1" strike="noStrike">
                <a:solidFill>
                  <a:srgbClr val="ffffff"/>
                </a:solidFill>
                <a:latin typeface="Tahoma"/>
              </a:rPr>
              <a:t> are naturalistic novels, where premise of “survival of the fittest” is exami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journalism</a:t>
            </a:r>
            <a:endParaRPr b="0" lang="en-US" sz="4400" spc="-1" strike="noStrike">
              <a:solidFill>
                <a:srgbClr val="ffffcc"/>
              </a:solidFill>
              <a:latin typeface="Tahoma"/>
            </a:endParaRPr>
          </a:p>
        </p:txBody>
      </p:sp>
      <p:sp>
        <p:nvSpPr>
          <p:cNvPr id="204" name="PlaceHolder 2"/>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me popular during the Modernism movement in American culture following WWII, but is an earlier phenomenon.</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longer objective; doesn’t make any pretense to being objective.</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tures author’s subjective responses to people and events covered in essay.</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includes fictional elements meant to illuminate and dramatize those responses of the author.</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Execution of Tropmann” by Ivan Turgenev in which the author reacts subjectively to the sights and sounds of attending his first public execution.  His opinion about such government events is clear by the last paragraph of the essay.  Persuasion is the k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vel and forms thereof</a:t>
            </a: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vel</a:t>
            </a:r>
            <a:r>
              <a:rPr b="0" lang="en-US" sz="3200" spc="-1" strike="noStrike">
                <a:solidFill>
                  <a:srgbClr val="ffffff"/>
                </a:solidFill>
                <a:latin typeface="Tahoma"/>
              </a:rPr>
              <a:t>: extended fictional narrative that allows greater complication of plot and more subtle examinations of charact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velette</a:t>
            </a:r>
            <a:r>
              <a:rPr b="0" lang="en-US" sz="3200" spc="-1" strike="noStrike">
                <a:solidFill>
                  <a:srgbClr val="ffffff"/>
                </a:solidFill>
                <a:latin typeface="Tahoma"/>
              </a:rPr>
              <a:t> or </a:t>
            </a:r>
            <a:r>
              <a:rPr b="0" i="1" lang="en-US" sz="3200" spc="-1" strike="noStrike">
                <a:solidFill>
                  <a:srgbClr val="ffffff"/>
                </a:solidFill>
                <a:latin typeface="Tahoma"/>
              </a:rPr>
              <a:t>Novella</a:t>
            </a:r>
            <a:r>
              <a:rPr b="0" lang="en-US" sz="3200" spc="-1" strike="noStrike">
                <a:solidFill>
                  <a:srgbClr val="ffffff"/>
                </a:solidFill>
                <a:latin typeface="Tahoma"/>
              </a:rPr>
              <a:t>: fictional narrative of middle length.  Examples: </a:t>
            </a:r>
            <a:r>
              <a:rPr b="0" i="1" lang="en-US" sz="3200" spc="-1" strike="noStrike">
                <a:solidFill>
                  <a:srgbClr val="ffffff"/>
                </a:solidFill>
                <a:latin typeface="Tahoma"/>
              </a:rPr>
              <a:t>Old Man and the Sea</a:t>
            </a:r>
            <a:r>
              <a:rPr b="0" lang="en-US" sz="3200" spc="-1" strike="noStrike">
                <a:solidFill>
                  <a:srgbClr val="ffffff"/>
                </a:solidFill>
                <a:latin typeface="Tahoma"/>
              </a:rPr>
              <a:t> by Ernest Hemingway or </a:t>
            </a:r>
            <a:r>
              <a:rPr b="0" i="1" lang="en-US" sz="3200" spc="-1" strike="noStrike">
                <a:solidFill>
                  <a:srgbClr val="ffffff"/>
                </a:solidFill>
                <a:latin typeface="Tahoma"/>
              </a:rPr>
              <a:t>Heart of Darkness</a:t>
            </a:r>
            <a:r>
              <a:rPr b="0" lang="en-US" sz="3200" spc="-1" strike="noStrike">
                <a:solidFill>
                  <a:srgbClr val="ffffff"/>
                </a:solidFill>
                <a:latin typeface="Tahoma"/>
              </a:rPr>
              <a:t> by Joseph Conr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xymoron</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u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Greek: </a:t>
            </a:r>
            <a:r>
              <a:rPr b="0" i="1" lang="en-US" sz="2800" spc="-1" strike="noStrike">
                <a:solidFill>
                  <a:srgbClr val="ffffff"/>
                </a:solidFill>
                <a:latin typeface="Tahoma"/>
              </a:rPr>
              <a:t>oxi</a:t>
            </a:r>
            <a:r>
              <a:rPr b="0" lang="en-US" sz="2800" spc="-1" strike="noStrike">
                <a:solidFill>
                  <a:srgbClr val="ffffff"/>
                </a:solidFill>
                <a:latin typeface="Tahoma"/>
              </a:rPr>
              <a:t> means “sharp, keen, acute, pungent, acid”; </a:t>
            </a:r>
            <a:r>
              <a:rPr b="0" i="1" lang="en-US" sz="2800" spc="-1" strike="noStrike">
                <a:solidFill>
                  <a:srgbClr val="ffffff"/>
                </a:solidFill>
                <a:latin typeface="Tahoma"/>
              </a:rPr>
              <a:t>moron</a:t>
            </a:r>
            <a:r>
              <a:rPr b="0" lang="en-US" sz="2800" spc="-1" strike="noStrike">
                <a:solidFill>
                  <a:srgbClr val="ffffff"/>
                </a:solidFill>
                <a:latin typeface="Tahoma"/>
              </a:rPr>
              <a:t> means “dull, stupid, foolish.”</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gure of speech in which two contradictory words are placed side-by-side for effe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are obviously opposed or markedly contradictory ter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ually reference: contradiction of ter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civil war,” “alone together,” “deafening silence,” or “jumbo shrim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ean</a:t>
            </a: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paian</a:t>
            </a:r>
            <a:r>
              <a:rPr b="0" lang="en-US" sz="2400" spc="-1" strike="noStrike">
                <a:solidFill>
                  <a:srgbClr val="ffffff"/>
                </a:solidFill>
                <a:latin typeface="Tahoma"/>
              </a:rPr>
              <a:t> meaning “hymn to Apollo” (</a:t>
            </a:r>
            <a:r>
              <a:rPr b="0" i="1" lang="en-US" sz="2400" spc="-1" strike="noStrike">
                <a:solidFill>
                  <a:srgbClr val="ffffff"/>
                </a:solidFill>
                <a:latin typeface="Tahoma"/>
              </a:rPr>
              <a:t>Paian </a:t>
            </a:r>
            <a:r>
              <a:rPr b="0" lang="en-US" sz="2400" spc="-1" strike="noStrike">
                <a:solidFill>
                  <a:srgbClr val="ffffff"/>
                </a:solidFill>
                <a:latin typeface="Tahoma"/>
              </a:rPr>
              <a:t>or </a:t>
            </a:r>
            <a:r>
              <a:rPr b="0" i="1" lang="en-US" sz="2400" spc="-1" strike="noStrike">
                <a:solidFill>
                  <a:srgbClr val="ffffff"/>
                </a:solidFill>
                <a:latin typeface="Tahoma"/>
              </a:rPr>
              <a:t>Paion</a:t>
            </a:r>
            <a:r>
              <a:rPr b="0" lang="en-US" sz="2400" spc="-1" strike="noStrike">
                <a:solidFill>
                  <a:srgbClr val="ffffff"/>
                </a:solidFill>
                <a:latin typeface="Tahoma"/>
              </a:rPr>
              <a:t>, being a name for Apollo).</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nounced “pie-un.”</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song of joy, praise or triumph.</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s </a:t>
            </a:r>
            <a:r>
              <a:rPr b="0" i="1" lang="en-US" sz="2400" spc="-1" strike="noStrike">
                <a:solidFill>
                  <a:srgbClr val="ffffff"/>
                </a:solidFill>
                <a:latin typeface="Tahoma"/>
              </a:rPr>
              <a:t>Hamlet</a:t>
            </a:r>
            <a:r>
              <a:rPr b="0" lang="en-US" sz="2400" spc="-1" strike="noStrike">
                <a:solidFill>
                  <a:srgbClr val="ffffff"/>
                </a:solidFill>
                <a:latin typeface="Tahoma"/>
              </a:rPr>
              <a:t>, the protagonist offers a paean to ma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at a piece of work is man, how noble in reaso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ow infinite his faculties, in form and moving how</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press and admirable, in action how like an angel,</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 apprehension, how like a god: the beauty of th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orld, the paragon of animals . . . . (II, ii, 292-9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dox</a:t>
            </a:r>
            <a:endParaRPr b="0" lang="en-US" sz="4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tatement that reveals a kind of truth, although it seems at first to be self-contradictory and untrue.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hymes with “in your socks”</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Books are a poor man’s wealth. Or, as Emily Dickinson writes, “Much madness is Divinest Sense.”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John Donne’s sonnet, “Death, Be Not Proud,” he declares:</a:t>
            </a:r>
            <a:endParaRPr b="0" lang="en-US" sz="28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400" spc="-1" strike="noStrike">
                <a:solidFill>
                  <a:srgbClr val="ffffff"/>
                </a:solidFill>
                <a:latin typeface="Tahoma"/>
              </a:rPr>
              <a:t>One short sleep past, we wake eternally</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nd death shall be no more; </a:t>
            </a:r>
            <a:r>
              <a:rPr b="0" i="1" lang="en-US" sz="2400" spc="-1" strike="noStrike">
                <a:solidFill>
                  <a:srgbClr val="ffffff"/>
                </a:solidFill>
                <a:latin typeface="Tahoma"/>
              </a:rPr>
              <a:t>Death, thou shalt di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ogy</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rison to a directly parallel case, arguing that a claim reasonable for one case is reasonable for the analogous case.</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rison made between two things that may initially seem to have little in common but can offer fresh insights when compared.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d for illustration and/or argument.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We advance in years somewhat in the manner of an invading army in a barren land; the age that we have reached, as the phrase goes, we but hold with an outpost, and still keep open our communications with the extreme rear and first beginnings of the march.” –Robert Louis Stevenson, “On Marri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ism</a:t>
            </a: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tence construction which places in close proximity two or more equal grammatical construction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as simple as listing two or three modifiers in a row to describe the same noun or verb.</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two or more of the same type of phrases (prepositional, participial, gerund, appositiv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two or more subordinate clauses that modify the same noun or verb.</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a complex blend of single-word, phrase, and clause parallelism all in the same senten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Example: He lived well, and he died we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ody</a:t>
            </a:r>
            <a:endParaRPr b="0" lang="en-US" sz="4400" spc="-1" strike="noStrike">
              <a:solidFill>
                <a:srgbClr val="ffffcc"/>
              </a:solidFill>
              <a:latin typeface="Tahoma"/>
            </a:endParaRPr>
          </a:p>
        </p:txBody>
      </p:sp>
      <p:sp>
        <p:nvSpPr>
          <p:cNvPr id="21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itates the serious materials and manner of a particular work, or the characteristic style of a particular author, and applies it to a lowly or grossly discordant subjec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xaggerated imitation of a serious work for humorous purpos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called “burlesque” and “travest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nglish essayist of the early twentieth century, Max Beerbohm is known for his parod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Thurber of </a:t>
            </a:r>
            <a:r>
              <a:rPr b="0" i="1" lang="en-US" sz="2400" spc="-1" strike="noStrike">
                <a:solidFill>
                  <a:srgbClr val="ffffff"/>
                </a:solidFill>
                <a:latin typeface="Tahoma"/>
              </a:rPr>
              <a:t>The New Yorker</a:t>
            </a:r>
            <a:r>
              <a:rPr b="0" lang="en-US" sz="2400" spc="-1" strike="noStrike">
                <a:solidFill>
                  <a:srgbClr val="ffffff"/>
                </a:solidFill>
                <a:latin typeface="Tahoma"/>
              </a:rPr>
              <a:t> magazine was an American writer also known for parod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rtoon series </a:t>
            </a:r>
            <a:r>
              <a:rPr b="0" i="1" lang="en-US" sz="2400" spc="-1" strike="noStrike">
                <a:solidFill>
                  <a:srgbClr val="ffffff"/>
                </a:solidFill>
                <a:latin typeface="Tahoma"/>
              </a:rPr>
              <a:t>The Simpsons</a:t>
            </a:r>
            <a:r>
              <a:rPr b="0" lang="en-US" sz="2400" spc="-1" strike="noStrike">
                <a:solidFill>
                  <a:srgbClr val="ffffff"/>
                </a:solidFill>
                <a:latin typeface="Tahoma"/>
              </a:rPr>
              <a:t> often does a parody of a famous poem or no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thos</a:t>
            </a:r>
            <a:endParaRPr b="0" lang="en-US" sz="4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ymology: Greek.</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ality in an experience, narrative, literary work, etc., which arouses profound feelings of compassion or sorrow.</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hetic expression or emotion; transient or emotional.</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For many audience members, the first time viewing </a:t>
            </a:r>
            <a:r>
              <a:rPr b="0" i="1" lang="en-US" sz="2400" spc="-1" strike="noStrike">
                <a:solidFill>
                  <a:srgbClr val="ffffff"/>
                </a:solidFill>
                <a:latin typeface="Tahoma"/>
              </a:rPr>
              <a:t>Braveheart</a:t>
            </a:r>
            <a:r>
              <a:rPr b="0" lang="en-US" sz="2400" spc="-1" strike="noStrike">
                <a:solidFill>
                  <a:srgbClr val="ffffff"/>
                </a:solidFill>
                <a:latin typeface="Tahoma"/>
              </a:rPr>
              <a:t> in a darkened theatre produced a profound pathos while watching William Wallace scream out “Freedom!” in his last dying moments after suffering a barbaric torture at the hands of the civilized Englis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iodic</a:t>
            </a:r>
            <a:endParaRPr b="0" lang="en-US" sz="4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that places the main idea or central complete thought at the end of the sentence, after all introductory ele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syndeton</a:t>
            </a: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tence that uses </a:t>
            </a:r>
            <a:r>
              <a:rPr b="0" i="1" lang="en-US" sz="2800" spc="-1" strike="noStrike">
                <a:solidFill>
                  <a:srgbClr val="ffffff"/>
                </a:solidFill>
                <a:latin typeface="Tahoma"/>
              </a:rPr>
              <a:t>and</a:t>
            </a:r>
            <a:r>
              <a:rPr b="0" lang="en-US" sz="2800" spc="-1" strike="noStrike">
                <a:solidFill>
                  <a:srgbClr val="ffffff"/>
                </a:solidFill>
                <a:latin typeface="Tahoma"/>
              </a:rPr>
              <a:t> or other conjunctions multiple times with no commas to separate items in a ser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sses equally each member of the ser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lows the flow of the sentence for effect, making items more emphatic than in the asyndet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 X and Y and Z.</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a:t>
            </a:r>
            <a:r>
              <a:rPr b="0" i="1" lang="en-US" sz="2800" spc="-1" strike="noStrike">
                <a:solidFill>
                  <a:srgbClr val="ffffff"/>
                </a:solidFill>
                <a:latin typeface="Tahoma"/>
              </a:rPr>
              <a:t>asyndeton</a:t>
            </a:r>
            <a:r>
              <a:rPr b="0" lang="en-US" sz="2800" spc="-1" strike="noStrike">
                <a:solidFill>
                  <a:srgbClr val="ffffff"/>
                </a:solidFill>
                <a:latin typeface="Tahoma"/>
              </a:rPr>
              <a:t> for vari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ahoma"/>
              </a:rPr>
              <a:t>post hoc</a:t>
            </a:r>
            <a:r>
              <a:rPr b="0" lang="en-US" sz="4400" spc="-1" strike="noStrike">
                <a:solidFill>
                  <a:srgbClr val="ffffcc"/>
                </a:solidFill>
                <a:latin typeface="Tahoma"/>
              </a:rPr>
              <a:t>, </a:t>
            </a:r>
            <a:r>
              <a:rPr b="0" i="1" lang="en-US" sz="4400" spc="-1" strike="noStrike">
                <a:solidFill>
                  <a:srgbClr val="ffffcc"/>
                </a:solidFill>
                <a:latin typeface="Tahoma"/>
              </a:rPr>
              <a:t>egro propter hoc</a:t>
            </a:r>
            <a:endParaRPr b="0" lang="en-US" sz="4400" spc="-1" strike="noStrike">
              <a:solidFill>
                <a:srgbClr val="ffffcc"/>
              </a:solidFill>
              <a:latin typeface="Tahoma"/>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in for “after this, therefore because of th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implies that because one thing follows another, the first caused the seco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n</a:t>
            </a: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lay on words that are either identical in sound (homonyms) or similar in sound, but are sharply diverse in meaning.</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Thou art Peter (Petros) and upon this rock (petra) I will build my church.”</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puns had roots in serious literature, that like Shakespeare, can also have a comical effect in a very serious situat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In </a:t>
            </a:r>
            <a:r>
              <a:rPr b="0" i="1" lang="en-US" sz="2000" spc="-1" strike="noStrike">
                <a:solidFill>
                  <a:srgbClr val="ffffff"/>
                </a:solidFill>
                <a:latin typeface="Tahoma"/>
              </a:rPr>
              <a:t>Romeo and Juliet</a:t>
            </a:r>
            <a:r>
              <a:rPr b="0" lang="en-US" sz="2000" spc="-1" strike="noStrike">
                <a:solidFill>
                  <a:srgbClr val="ffffff"/>
                </a:solidFill>
                <a:latin typeface="Tahoma"/>
              </a:rPr>
              <a:t>, while bleeding to death, Mercutio says “Ask for me tomorrow and you shall find me a grave ma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the eighteenth century and after, the literary use of puns has been almost exclusively comic.</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voque: the use of a single word or phrase which has two disparate meanings, in a context which makes both meanings equally relevan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n epitaph suggested for a bank teller, which states, “He checked his cash, cashed in his checks.  And left his window.  Who is nex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le patch</a:t>
            </a:r>
            <a:endParaRPr b="0" lang="en-US" sz="4400" spc="-1" strike="noStrike">
              <a:solidFill>
                <a:srgbClr val="ffffcc"/>
              </a:solidFill>
              <a:latin typeface="Tahoma"/>
            </a:endParaRPr>
          </a:p>
        </p:txBody>
      </p:sp>
      <p:sp>
        <p:nvSpPr>
          <p:cNvPr id="22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nslation of “purpureus . . . Pannus” from Horace’s </a:t>
            </a:r>
            <a:r>
              <a:rPr b="0" i="1" lang="en-US" sz="2000" spc="-1" strike="noStrike">
                <a:solidFill>
                  <a:srgbClr val="ffffff"/>
                </a:solidFill>
                <a:latin typeface="Tahoma"/>
              </a:rPr>
              <a:t>Ars Poetica</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nifies a sudden heightening of rhythm, diction, and figurative language that makes a section of verse or prose—especially a descriptive passage—stand out from its con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times applied to a set piece, separable and quotable, in which an author rises to an occas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From the 1999 film </a:t>
            </a:r>
            <a:r>
              <a:rPr b="0" i="1" lang="en-US" sz="2000" spc="-1" strike="noStrike">
                <a:solidFill>
                  <a:srgbClr val="ffffff"/>
                </a:solidFill>
                <a:latin typeface="Tahoma"/>
              </a:rPr>
              <a:t>Cider House Rules</a:t>
            </a:r>
            <a:r>
              <a:rPr b="0" lang="en-US" sz="2000" spc="-1" strike="noStrike">
                <a:solidFill>
                  <a:srgbClr val="ffffff"/>
                </a:solidFill>
                <a:latin typeface="Tahoma"/>
              </a:rPr>
              <a:t>, in which </a:t>
            </a:r>
            <a:r>
              <a:rPr b="0" lang="en-US" sz="2000" spc="-1" strike="noStrike">
                <a:solidFill>
                  <a:srgbClr val="ffffff"/>
                </a:solidFill>
                <a:latin typeface="Tahoma"/>
              </a:rPr>
              <a:t>Dr. Wilbur Larch (Michael Caine) salutes the boy orphans crowded in the attic bedroom with, “Goodnight, you princes of Maine. You kings of New England,” thereby heightening just how precious these orphaned lads and the struggling orphanage are to the doctor.</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Shakespeare’s eulogy of England by the dying John of Gaunt in Shakespeare’s </a:t>
            </a:r>
            <a:r>
              <a:rPr b="0" i="1" lang="en-US" sz="2000" spc="-1" strike="noStrike">
                <a:solidFill>
                  <a:srgbClr val="ffffff"/>
                </a:solidFill>
                <a:latin typeface="Tahoma"/>
              </a:rPr>
              <a:t>Richard II</a:t>
            </a:r>
            <a:r>
              <a:rPr b="0" lang="en-US" sz="2000" spc="-1" strike="noStrike">
                <a:solidFill>
                  <a:srgbClr val="ffffff"/>
                </a:solidFill>
                <a:latin typeface="Tahoma"/>
              </a:rPr>
              <a:t> (Act II, Scene I, lines 40-43).  The dying John say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royal throne of kings, this scept’red is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earth of majesty, this seat of Mar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other Eden, demi-paradise . .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d herring</a:t>
            </a: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raises an irrelevant issue to draw attention away from the real iss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in</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ine, or part of a line, or a group of lines which is repeated in the course of a poem or an essay.</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might be slight variations within the repeated refrai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petition is done for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If an essay incorporated repeated phrases like “I believe” or “This is love” each refrain focuses the audience on a particular subj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haps the most famous refrain in American writing is from Edgar Allan Poe’s “The Raven” which is simply “Nevermore.”  The audience is focused on the concept of never will the narrator be able to forget his lost love, find relief from the pain, or be able to hold her agai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phora</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word, phrase or clause at the beginning of two or more sentences in a row.</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berate form of repetition to reinforce point or to make it more coher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the </a:t>
            </a:r>
            <a:r>
              <a:rPr b="0" i="1" lang="en-US" sz="2800" spc="-1" strike="noStrike">
                <a:solidFill>
                  <a:srgbClr val="ffffff"/>
                </a:solidFill>
                <a:latin typeface="Tahoma"/>
              </a:rPr>
              <a:t>Declaration of Independence</a:t>
            </a:r>
            <a:r>
              <a:rPr b="0" lang="en-US" sz="2800" spc="-1" strike="noStrike">
                <a:solidFill>
                  <a:srgbClr val="ffffff"/>
                </a:solidFill>
                <a:latin typeface="Tahoma"/>
              </a:rPr>
              <a:t>, Thomas Jefferson places the subject, “He,” at the beginning of twenty accusations in a row, each as a single paragraph, to put the weight of responsibility for the problems with King George III, whom Jefferson refers to in the third pers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utatio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t of mustering relevant opposing argum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uthor “refutes” through evidence logical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etoric</a:t>
            </a:r>
            <a:endParaRPr b="0" lang="en-US" sz="4400" spc="-1" strike="noStrike">
              <a:solidFill>
                <a:srgbClr val="ffffcc"/>
              </a:solidFill>
              <a:latin typeface="Tahoma"/>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rt of effective communication, especially persuasive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s on the interrelationship of invention, arrangement, and style in order to create fitting and appropriate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ght also be used as an adjective to describe the elements of effective communication (rhetorical situation, rhetorical question, rhetorical examp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that reveals a critical attitude toward some element of human behavior by portraying it in an extreme way.</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re is meant to improve society through humor, not to tear it down through vicious ridicule.</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n’t simply abuse (as in </a:t>
            </a:r>
            <a:r>
              <a:rPr b="0" i="1" lang="en-US" sz="2400" spc="-1" strike="noStrike">
                <a:solidFill>
                  <a:srgbClr val="ffffff"/>
                </a:solidFill>
                <a:latin typeface="Tahoma"/>
              </a:rPr>
              <a:t>invective</a:t>
            </a:r>
            <a:r>
              <a:rPr b="0" lang="en-US" sz="2400" spc="-1" strike="noStrike">
                <a:solidFill>
                  <a:srgbClr val="ffffff"/>
                </a:solidFill>
                <a:latin typeface="Tahoma"/>
              </a:rPr>
              <a:t>) or get personal (as in </a:t>
            </a:r>
            <a:r>
              <a:rPr b="0" i="1" lang="en-US" sz="2400" spc="-1" strike="noStrike">
                <a:solidFill>
                  <a:srgbClr val="ffffff"/>
                </a:solidFill>
                <a:latin typeface="Tahoma"/>
              </a:rPr>
              <a:t>sarcasm</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s groups or large concepts rather than individuals.</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pposed to sarcasm, which is meant to abuse and ridicule an individual.</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creative and takes audience knowledge and perception to appreci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ntimentalism</a:t>
            </a: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perceived as an excess of emotion to an occa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more limited sense, refers to an overindulgence in the “tender” emotions of pathos and sympath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 to audience and cultural percep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al words</a:t>
            </a: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in an essay that alert the reader to a change in tone, direction, section, or catego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however, on the other hand, contrary to, and now, next, following,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Examples: At one in the morning, by sunset, at no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mile</a:t>
            </a: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igure of speech, comparing two essentially unlike things through the use of a specific word of comparison (like, as, or than, for examp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is is the Arsenal.  From the floor to ceiling, like a huge organ, rise the burnished ar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aw man</a:t>
            </a: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gues against a claim that nobody actually holds or is universally considered wea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ts attention away from the real 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oices in diction, tone, syntax that a writer mak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gether, these choices create the manner of expression in a text, which is </a:t>
            </a:r>
            <a:r>
              <a:rPr b="0" i="1" lang="en-US" sz="2800" spc="-1" strike="noStrike">
                <a:solidFill>
                  <a:srgbClr val="ffffff"/>
                </a:solidFill>
                <a:latin typeface="Tahoma"/>
              </a:rPr>
              <a:t>styl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olves over time as writing habits are developed naturall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both conscious and unconscious and thus may be altered to fit the purpose of the tex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llogistic</a:t>
            </a:r>
            <a:endParaRPr b="0" lang="en-US" sz="44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u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Greek word </a:t>
            </a:r>
            <a:r>
              <a:rPr b="0" i="1" lang="en-US" sz="3200" spc="-1" strike="noStrike">
                <a:solidFill>
                  <a:srgbClr val="ffffff"/>
                </a:solidFill>
                <a:latin typeface="Tahoma"/>
              </a:rPr>
              <a:t>syllogismos</a:t>
            </a:r>
            <a:r>
              <a:rPr b="0" lang="en-US" sz="3200" spc="-1" strike="noStrike">
                <a:solidFill>
                  <a:srgbClr val="ffffff"/>
                </a:solidFill>
                <a:latin typeface="Tahoma"/>
              </a:rPr>
              <a:t>, meaning “inference or conclu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orm of argument or reasoning, consisting of two premises and a concl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mbol</a:t>
            </a: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bject, place, setting, prop, event or person that represents or stands for some idea or ev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er hidden, but interwoven throughout the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may also retain its own literal meaning while taking on the symbolic qu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ecdote</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rief recounting of a relevant episod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in fiction and nonfic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s point or injects hum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ly used as an illustration for an abstract point being mad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Mark Twain is famous for his short anecdotes about growing up in Missouri intertwined with humor and an abstract truth about human n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ecdoche</a:t>
            </a:r>
            <a:endParaRPr b="0" lang="en-US" sz="4400" spc="-1" strike="noStrike">
              <a:solidFill>
                <a:srgbClr val="ffffcc"/>
              </a:solidFill>
              <a:latin typeface="Tahoma"/>
            </a:endParaRPr>
          </a:p>
        </p:txBody>
      </p:sp>
      <p:sp>
        <p:nvSpPr>
          <p:cNvPr id="254"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ek, for “taking together.”</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art of something is used to signify the whole.</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 more rarely, a whole to signify a par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Milton in “Lycidas” calls the corrupt clergy of the Church of England “blind mouths,”  meaning their misguided sermons represent their total corruptio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Give me your hand,” does not mean literally just your hand, but your entire physical help.</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inder: do not mix this term with </a:t>
            </a:r>
            <a:r>
              <a:rPr b="0" i="1" lang="en-US" sz="2800" spc="-1" strike="noStrike">
                <a:solidFill>
                  <a:srgbClr val="ffffff"/>
                </a:solidFill>
                <a:latin typeface="Tahoma"/>
              </a:rPr>
              <a:t>metonymy</a:t>
            </a:r>
            <a:r>
              <a:rPr b="0" lang="en-US" sz="2800" spc="-1" strike="noStrike">
                <a:solidFill>
                  <a:srgbClr val="ffffff"/>
                </a:solidFill>
                <a:latin typeface="Tahoma"/>
              </a:rPr>
              <a:t>.  They are different too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tactic fluency</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lity to create a variety of sentence structures, appropriately complex and/or simple and varied in leng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tactic permutation</a:t>
            </a:r>
            <a:endParaRPr b="0" lang="en-US" sz="44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structures that are extraordinarily complex and involv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for the reader to foll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iness beyond effectiven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utology</a:t>
            </a: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Late Latin </a:t>
            </a:r>
            <a:r>
              <a:rPr b="0" i="1" lang="en-US" sz="2400" spc="-1" strike="noStrike">
                <a:solidFill>
                  <a:srgbClr val="ffffff"/>
                </a:solidFill>
                <a:latin typeface="Tahoma"/>
              </a:rPr>
              <a:t>tautologia.</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petition of the same statemen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petition, within the immediate context, of the same word or phrase or the same meaning in different words; usually as a fault of style.</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essential necessarie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petition of something already said.</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ere repetition of acts, incidents or experience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rn Logic: A self-evident truth, a truism; a compound proposition which is unconditionally true for all possibilit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me</a:t>
            </a: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ral idea of a work of fiction or nonfict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ealed and developed in the course of a story or explored through argumen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abstract claim, or doctrine, whether implicit or asserted, which the text is designed to incorporate and makes persuasive to the reader.</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discussed as a </a:t>
            </a:r>
            <a:r>
              <a:rPr b="0" i="1" lang="en-US" sz="2000" spc="-1" strike="noStrike">
                <a:solidFill>
                  <a:srgbClr val="ffffff"/>
                </a:solidFill>
                <a:latin typeface="Tahoma"/>
              </a:rPr>
              <a:t>main idea</a:t>
            </a:r>
            <a:r>
              <a:rPr b="0" lang="en-US" sz="2000" spc="-1" strike="noStrike">
                <a:solidFill>
                  <a:srgbClr val="ffffff"/>
                </a:solidFill>
                <a:latin typeface="Tahoma"/>
              </a:rPr>
              <a:t> when confined to the parameters of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discussed as a </a:t>
            </a:r>
            <a:r>
              <a:rPr b="0" i="1" lang="en-US" sz="2000" spc="-1" strike="noStrike">
                <a:solidFill>
                  <a:srgbClr val="ffffff"/>
                </a:solidFill>
                <a:latin typeface="Tahoma"/>
              </a:rPr>
              <a:t>theme</a:t>
            </a:r>
            <a:r>
              <a:rPr b="0" lang="en-US" sz="2000" spc="-1" strike="noStrike">
                <a:solidFill>
                  <a:srgbClr val="ffffff"/>
                </a:solidFill>
                <a:latin typeface="Tahoma"/>
              </a:rPr>
              <a:t> when presented in abstract terms that go beyond the boundaries of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The main idea of </a:t>
            </a:r>
            <a:r>
              <a:rPr b="0" i="1" lang="en-US" sz="2000" spc="-1" strike="noStrike">
                <a:solidFill>
                  <a:srgbClr val="ffffff"/>
                </a:solidFill>
                <a:latin typeface="Tahoma"/>
              </a:rPr>
              <a:t>Great Expectations</a:t>
            </a:r>
            <a:r>
              <a:rPr b="0" lang="en-US" sz="2000" spc="-1" strike="noStrike">
                <a:solidFill>
                  <a:srgbClr val="ffffff"/>
                </a:solidFill>
                <a:latin typeface="Tahoma"/>
              </a:rPr>
              <a:t> is that Pip has to learn to judge others by evidence and not by appearance, through which Dickens presents the theme that humans create most of their own problems by being prejudice, pompous and placing importance on social status rather than on personal charact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attitude toward subject matter as revealed through style, syntax, diction, figurative language, and organiz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tone creates mood in the text by use of the above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colon</a:t>
            </a:r>
            <a:endParaRPr b="0" lang="en-US" sz="44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consisting of three parts of equal importance and leng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ually three independent claus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risimilitude</a:t>
            </a:r>
            <a:endParaRPr b="0" lang="en-US" sz="44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hievement of an illusion of reality in the audience.  This is one of the “three unities” of Italian and French drama: unity of place, unity of time, and unity of truth (the drama must have a sense of reality and believability in the audienc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ppearance of being tr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a resemblance to truth, reality or fa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tatement which has the mere show of being true or in accordance with fact; an apparent tru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ticlimax</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riting, denotes a writer’s intentional drop from the serious and elevated to the trivial and lowly, in order to achieve a comic or satiric eff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vent (as at the end of a series) that is strikingly less important than what has preceded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ransition towards this end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4:37:00Z</dcterms:created>
  <dc:creator>Suzanne Conti</dc:creator>
  <dc:description/>
  <dc:language>en-US</dc:language>
  <cp:lastModifiedBy>Suzanne Conti</cp:lastModifiedBy>
  <dcterms:modified xsi:type="dcterms:W3CDTF">2010-08-28T01:01:53Z</dcterms:modified>
  <cp:revision>187</cp:revision>
  <dc:subject/>
  <dc:title>Random Literary Terms</dc:title>
</cp:coreProperties>
</file>